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AEF-5AD5-4A9F-9AE9-94A266C4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DED-945E-4342-A9D1-A80A1E49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52E-26A1-4E49-A9D1-4866F3EE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103-C470-484E-9D9A-C0E15BD2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5B6-47CF-41E9-B0D6-9C9768DB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CCA-AC92-4EA9-B94C-F42A911A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0EC-A16D-4633-9084-A4FA29B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3A4-6B67-47CE-9385-A52354D4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1AC-7B47-41CD-9E19-8C37E84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A6D-A3F6-425D-95F6-92E1AD7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CDB-6B05-4DC3-A31C-EE4AF15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667-15B4-48A6-8314-7380B32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9FFE-7888-41C1-BE44-2622430F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ular 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ssessive prono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the place of a possessive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ssessive prono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ws who or what owns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y, your, his, and 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ingular possessive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ural 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ural possessive prono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ws who or what owns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s, our, your, and the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lural possessive pro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gular Poss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s ownership of on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ural Poss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s ownership of more than on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ohn and Jan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use is br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drea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use is br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dog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ne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nk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g is br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inna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r is lo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d’s dad and my 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6:22:40Z</dcterms:created>
  <dc:creator>GCSD</dc:creator>
  <dc:description/>
  <dc:language>en-US</dc:language>
  <cp:lastModifiedBy>teacher</cp:lastModifiedBy>
  <cp:lastPrinted>2005-02-28T20:24:07Z</cp:lastPrinted>
  <dcterms:modified xsi:type="dcterms:W3CDTF">2011-02-07T01:13:48Z</dcterms:modified>
  <cp:revision>4</cp:revision>
  <dc:subject/>
  <dc:title>Possessive Pronouns</dc:title>
</cp:coreProperties>
</file>